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50C-02EC-42B5-8924-DB2A0F34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177-CD5B-4AA9-91CE-3D44EF3C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A38-A308-4F40-8280-D1E27B08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BD0-47CE-4456-A4B5-438D738F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935-EE36-4496-99FF-5F27FA5E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DC0-9D7D-434C-B6AA-14842132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D6D-4A16-421E-841A-BFA076BE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FD1-F68F-40FE-8AD9-41EAEC6E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8C4-D3D9-4373-93B7-FAFFD19D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49F-BDEE-4790-A45E-78633206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5D2-E9B3-4AD0-8CB0-9146421D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1A2-D541-4788-BED8-D4972E68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CBAE-528E-429C-BA53-391B3978F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35680" y="1697040"/>
            <a:ext cx="576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cc0066"/>
                </a:solidFill>
                <a:uFillTx/>
                <a:latin typeface="Arial"/>
              </a:rPr>
              <a:t>МАТЕМАТ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cc0066"/>
                </a:solidFill>
                <a:uFillTx/>
                <a:latin typeface="Arial"/>
              </a:rPr>
              <a:t>4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628560" y="14508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66"/>
                </a:solidFill>
                <a:uFillTx/>
                <a:latin typeface="Arial"/>
              </a:rPr>
              <a:t>ТРИ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начальны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-65880" y="549360"/>
            <a:ext cx="9465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ак правильно сказать: не вижу белый желток или не виж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елого желт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Сколько лет двадцатисемилетнему капитан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полке стояли детские книжки. Подбежала Жучка, взяла одн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 потом еще три книжки. Сколько книг она прочитал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Катится по столу колесо разноцветное. Один угол красны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другой желтый, третий зеленый и четвертый си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Когда колесо докатится до края стола, какой цвет мы увиди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шли две девочки в лес за грибами, а навстречу два мальчи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колько всего детей шли в ле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Сидит на дереве волк. Идут два охотника, один с соба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другой без собаки. Кто первый убьет волка?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то будет с мухой, если она налетит на сосульк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817360" y="907920"/>
            <a:ext cx="49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Белых желтков не быва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а варианта ответа неправильные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799680" y="155736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Ответ - 27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496040" y="2565360"/>
            <a:ext cx="36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Собаки книжек не читаю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650480" y="393372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У колеса нет углов)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773240" y="458136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В лес шли 2 девочк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448160" y="558972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Волки на деревьях не сидя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500360" y="6237360"/>
            <a:ext cx="32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Зимой мухи не летаю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5018760" y="236520"/>
            <a:ext cx="36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(Интеллектуальная разминк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477000" y="779400"/>
            <a:ext cx="813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Лжезагад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загадка, использующая пр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ложная альтернати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нимание слушателя уводится в сторо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 помощью альтернативы "или-или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вершенно произвольно выраж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 один из предлагаемых отве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является вер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4840" y="4863960"/>
            <a:ext cx="90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Кто написал "Мойдодыр" - Маршак или Михалк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написал "Мойдодыр" - Маршак или Чуковск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80880" y="4156200"/>
            <a:ext cx="80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объяснения понятия детям предлагается отгад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е аналогичные загадки (одна обычная, другая - "лже-") и срав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24784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704600" y="74520"/>
            <a:ext cx="44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Л Ж Е З А Г А Д К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734880" y="6191280"/>
            <a:ext cx="180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990033"/>
                </a:solidFill>
                <a:latin typeface="Arial"/>
              </a:rPr>
              <a:t>(В первом случае – лжезагадк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75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75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05480" y="115920"/>
            <a:ext cx="887148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енинг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читель предлагает вразброс обычные загадк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жезагадки, дети должны их угадывать и указывать их ти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колько будет 8 и 4: 11 или 12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Что растет не березе - яблоки или груши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лово "часы" - пишется как "чесы" или "чисы"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Кто быстрее плавает - утенок или цыпленок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толица России - Москва или Минск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Какие звери живут в Африке - мамонты ил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динозавры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колько в минуте секунд - 10 или 100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3680" y="5656320"/>
            <a:ext cx="90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бобщение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лжезагадка состоит из двух частей, вопр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(этим она похожа на обычную) и ответа, представляющ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обой два варианта на выбор, причем оба варианта неправи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4320" y="326880"/>
            <a:ext cx="907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Работа в группах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- закрепление материала и тренировка в составлении лжезага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группе указывается тема, на которую должны быть придум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жезагад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проводится с точки зрения правильности составл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я теме, учитывая оригинальность зага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тем для работы в группах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ивотные, раст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ловек, продукты, транспорт, сказки, школа, наш 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-28080" y="4365720"/>
            <a:ext cx="918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Подведение итогов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ожно вспомнить уроки по теме «Язык и фантазия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больше всего запомнилось? Что было наиболее интересн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не понравилось на уроках? Какие пожел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16:14Z</dcterms:created>
  <dc:creator>PK-07</dc:creator>
  <dc:description/>
  <dc:language>en-US</dc:language>
  <cp:lastModifiedBy>PK-22</cp:lastModifiedBy>
  <dcterms:modified xsi:type="dcterms:W3CDTF">2012-01-23T05:54:30Z</dcterms:modified>
  <cp:revision>8</cp:revision>
  <dc:subject/>
  <dc:title>Слайд 1</dc:title>
</cp:coreProperties>
</file>